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9BC-BE3F-40D7-B2B7-35F3FDB6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83C-884A-473A-ADD3-1197E99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2C7-C3E4-4F59-ACF7-BE1BFA3C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97F-09BB-44A6-8F33-EE8D673A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05FD-22C6-4A54-8B65-ADE7FEDE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62F-044A-4034-9A3A-665E626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1574-5FA4-4FA4-919D-0D259A8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7415-E962-4E61-9EF2-C7D904A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E9DE-42BB-4CFD-9DA4-A2D78F1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BD4F-4D6F-4DCF-8A97-3FCD1D4C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238-E483-4168-BE0D-53D13F0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332-74FF-421C-8D22-8E47B08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ECD9-3F83-49B3-A7EE-272115E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A4D-462B-4408-B3F8-5585DEA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D599-8313-49C6-9DDF-0608A31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15AE-1B24-4512-807D-C6505A43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878E-A88A-44B1-A47C-06557AA2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182-096E-4024-AEF9-09C59F71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A9A-1DC3-4C9B-BB95-218B73C9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8F0-5BE1-4A1B-847E-7631E9E1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2F9-CC89-4760-948D-0B3BD38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3AA-3337-4C99-9607-811F305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E85-1A99-435E-9DE5-90C0D91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FE2-1479-4291-AC80-43F232E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772-FE40-433B-A6CB-6AA6080208B7}" type="slidenum">
              <a:rPr b="0" lang="es-E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350-E2D1-4A90-9AEB-9033833AFD25}" type="slidenum">
              <a:rPr b="0" lang="es-E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echo por: Miguel Bustamante y Gonzalo Prad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Cultura Chancay extendió su área de influencia entre los valles de Chancay, Chillón, Rimac y Lurí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5" descr="pch-ubi"/>
          <p:cNvPicPr/>
          <p:nvPr/>
        </p:nvPicPr>
        <p:blipFill>
          <a:blip r:embed="rId2"/>
          <a:stretch/>
        </p:blipFill>
        <p:spPr>
          <a:xfrm>
            <a:off x="1042920" y="3141720"/>
            <a:ext cx="655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los destacaban en la pes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Basaron su economía en la agricultura y el comerci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5" descr="agricultura"/>
          <p:cNvPicPr/>
          <p:nvPr/>
        </p:nvPicPr>
        <p:blipFill>
          <a:blip r:embed="rId2"/>
          <a:stretch/>
        </p:blipFill>
        <p:spPr>
          <a:xfrm>
            <a:off x="2916360" y="2781360"/>
            <a:ext cx="5688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acían centros urbanos piramidales y también se basaron en la ingeniería hidrául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5" descr="poster_hidraulica"/>
          <p:cNvPicPr/>
          <p:nvPr/>
        </p:nvPicPr>
        <p:blipFill>
          <a:blip r:embed="rId2"/>
          <a:stretch/>
        </p:blipFill>
        <p:spPr>
          <a:xfrm>
            <a:off x="2771640" y="2781360"/>
            <a:ext cx="604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ubo un alto rango en desarrollo texti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ormalmente hacian sus textiles con dibujos de peces aves o figuras geometrica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terraban a los hombres importantes en tumbas rectangulares o cuadrangulares, el fardo funerario estaba rodeado de ofrendas de textiles y objetos de oro y pla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terraban a los pobladores comunes casi en la superficie, el fardo funerario era cubierto con esteras, venía acompañado de simples telas y pocas ofrenda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estilo clásico de la cerámica en la cultura Chancay son sus cerámicas ásperas y tenia los colores marrón y negro sobre un fondo blanco o cre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3666960" y="2109960"/>
            <a:ext cx="1810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666960" y="2109960"/>
            <a:ext cx="1810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666960" y="2109960"/>
            <a:ext cx="1810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china2"/>
          <p:cNvPicPr/>
          <p:nvPr/>
        </p:nvPicPr>
        <p:blipFill>
          <a:blip r:embed="rId2"/>
          <a:stretch/>
        </p:blipFill>
        <p:spPr>
          <a:xfrm>
            <a:off x="539640" y="3751200"/>
            <a:ext cx="80647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59:04Z</dcterms:created>
  <dc:creator>user</dc:creator>
  <dc:description/>
  <dc:language>en-US</dc:language>
  <cp:lastModifiedBy>Computo</cp:lastModifiedBy>
  <dcterms:modified xsi:type="dcterms:W3CDTF">2009-11-12T18:50:21Z</dcterms:modified>
  <cp:revision>4</cp:revision>
  <dc:subject/>
  <dc:title>Cultura Chancay</dc:title>
</cp:coreProperties>
</file>